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5E7-3F7D-493A-93FD-5A8A8306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B3F-6314-4CE3-9BEF-F18F733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95C-3AC7-46EA-AF4B-A968C60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007-F694-4194-8BD1-7F2E94F1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D13-7243-444E-856C-AD12B17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5E2-7CBA-4A9A-A502-833937C4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67B-EED0-4040-B49B-C4B19353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FC3-58A0-48DB-A3EC-E81A6EF9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F4B-4B03-42F5-8C21-05CD2C67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77F-1428-46EB-ACE9-1986BB1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409-9B5C-4DAE-AA7A-D1AAB10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FD4-9B6B-42D7-95ED-5806D7C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DD59-DB37-4D4E-B9E2-40CE9D18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pacode.com/secure/data/022/chapter16/chap16toc.html" TargetMode="External"/><Relationship Id="rId2" Type="http://schemas.openxmlformats.org/officeDocument/2006/relationships/hyperlink" Target="http://odr.pattan.net/dueprocess" TargetMode="External"/><Relationship Id="rId3" Type="http://schemas.openxmlformats.org/officeDocument/2006/relationships/hyperlink" Target="http://listserv.millersville.edu/cgi-bin/wa?SUBED1=gifted-atmu&amp;A=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7FE4-07FD-4560-ACE5-FF2FFA7C1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Due Process:</a:t>
            </a:r>
            <a:br>
              <a:rPr sz="4400"/>
            </a:br>
            <a:r>
              <a:rPr b="1" lang="en-US" sz="4000" spc="-1" strike="noStrike">
                <a:solidFill>
                  <a:srgbClr val="cb2922"/>
                </a:solidFill>
                <a:latin typeface="Times New Roman"/>
              </a:rPr>
              <a:t>Views from the Sid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a J. Deal, Teacher of the Gif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y Clark, Parent and Attorney for Gift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2700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279-419F-4BD3-99C2-AA643D11F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Due Process under Chapter 16</a:t>
            </a:r>
            <a:br>
              <a:rPr sz="4400"/>
            </a:br>
            <a:r>
              <a:rPr b="1" i="1" lang="en-US" sz="4400" spc="-1" strike="noStrike">
                <a:solidFill>
                  <a:srgbClr val="cb2922"/>
                </a:solidFill>
                <a:latin typeface="Times New Roman"/>
              </a:rPr>
              <a:t>Initiated by </a:t>
            </a: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District</a:t>
            </a:r>
            <a:r>
              <a:rPr b="1" i="1" lang="en-US" sz="4400" spc="-1" strike="noStrike">
                <a:solidFill>
                  <a:srgbClr val="cb2922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-16.63(b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Evaluation - 16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evaluation when a parent fails to respond to the district’s proposed evaluation or reevaluation - 16.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arent rejects the district’s proposed educational placement, other than the initial placement, the school district may request an impartial due process he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9B9C-54FD-4187-B202-1D1D48B2A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Due Process under Chapter 16</a:t>
            </a:r>
            <a:br>
              <a:rPr sz="4400"/>
            </a:b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Initiated by District -16.63(b)</a:t>
            </a:r>
            <a:br>
              <a:rPr sz="4400"/>
            </a:b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Prohibit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657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arent fails to respond or refuses to consent to the initial provision of gifted services, neither due process nor mediation may be used to obtain agreement or a ruling that the services may be prov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1327320" cy="144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139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F54F-89FE-4856-BD4A-416411F79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Due Process Procedur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ute Resolution Manual - Section 5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dr.pattan.net/files/ODR/SEDR_Man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 Due Process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on ODR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dr.pattan.net/dueprocess/RequestForms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602-C472-4502-A5FF-F21D7B823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Due Process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vs. Closed Hearing must be requested by parent at least 5 days before hearing - 16.63(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ing hearings may be requested by parent when the DP claim is 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-calendar Day Evidence Rule - 16.63(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Student Records - 16.63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D417-0501-4A49-BC0E-BFB6B61D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Timelines for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should be held within 30 calendar days after initial request for he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should be issued within 45 calendar days after the request for a he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nces/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for the Decision deadli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DR responsi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d not infrequently, but infrequently g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0B6B-B423-42AE-9824-43F42015D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Burden of Proof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is the responsibility of the party bringing the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duction:  Party’s duty to introduce enough evidence on an issue to have the issue decided by the hearing officer.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decided prior to the hearing by the hearing offic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ersuasion:  Party’s duty to convince the hearing officer to view the facts in a way that favors that party.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this happens during the hea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886-DFF0-4E08-A71E-BD46CB94E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Representation at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ct generally represented by coun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represent themselves (pro 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have legal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orney fees not reimbur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be accompanied and advised by individuals with special knowledge and training with respect to students who are gif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F0EE-8ACC-49AE-9A5D-09A8BF8B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Evidence and Testimon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present evidence and testimony, including expert medical, psychological or educational testi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(IEE = Independent Educational Evaluation. This may be done by people outside of the district. Both the district and the parents may have evaluations done at their own expens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870A-2458-40A4-86AF-898498130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ypes of Eviden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138560" y="1560600"/>
            <a:ext cx="37800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93B-B9CB-4D67-BBA1-ED25D4B7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Evidence Noteboo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ological - Oldest to ne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ing of Exhibits - P-1 or SD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ing of Pages - 1 of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22680" y="3170160"/>
            <a:ext cx="377352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1896-B47F-4239-B0F5-4961F79C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Have you read the Procedural</a:t>
            </a:r>
            <a:br>
              <a:rPr sz="4400"/>
            </a:b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Safeguard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educators and parents shoul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t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ell out safeguards for parents to follow if they feel their child does not have  appropriate educational opportunit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F77-07BB-41E0-B0D3-8899F33D6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The Due Process Hearing</a:t>
            </a:r>
            <a:br>
              <a:rPr sz="4400"/>
            </a:b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just like a court hearing)</a:t>
            </a:r>
            <a:br>
              <a:rPr sz="2400"/>
            </a:b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here is also a court stenographer recording all the testimony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ing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outs - due process for edu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ue process for pa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9051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812-EA78-4FBC-AC2C-F3A5A285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Tips for Witness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y only to the question as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evidence book. The attorneys will refer to this as questions are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hon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if you don’t understand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se when Objections ar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ucator  Handout, p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E6E6-4A91-4DD5-BA8E-F40A63D1D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Tips for Teach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take it pers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focused on the student needs and abilities - not what others expect whether parents or administ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6 rules - not District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67F8-CD23-4C5A-8DCF-4B5DC4E01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Tips for Pare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stay calm. Your answers will be more coherent and log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facts as you know them. Stay focused on the needs of your child. Present soli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comments that attack or demean. These comments might not add to you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334A-0E3C-4182-B07F-3DDE3E7C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ranscript of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transcript provided to parents at no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or electronic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1914-E653-42A2-AD15-D43EEA93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eci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s of Fact:  A determination by hearing officer of a fact supported by the evidence in rec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ase and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of Law:  An inference on a question of law, made as a result of a factual showing, no further evidence being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C7C-099B-4E16-AE6F-E58648CF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eci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based solely upon the substantial evidence presented during the course of the hearing.  16.63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114800" y="3389400"/>
            <a:ext cx="30099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CC4-2161-4DF5-8A37-9CC360FF3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Appea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ppeals Panel - new to Chapt. 16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led directly to Commonwealth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tutional rights were vi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rror of law w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cessary findings of fact were not supported by substantial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191120" y="533520"/>
            <a:ext cx="247176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20E2-62D5-4AC9-8784-9B792B00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Implementation of Hearing Officer Deci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ceipt of final decision from hearing officer or court, the school district must provide to PDE an assurance of its implementation of th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ance must be filed within 30 school days of the date of the final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638-3CF3-4FBB-814D-FD98564EF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6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www.pacode.com/secure/data/022/chapter16/chap16to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Due Process Cases on the ODR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http://odr.pattan.net/due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ersville University List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http://listserv.millersville.edu/cgi-bin/wa?SUBED1=gifted-atmu&amp;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06DB-CAB4-4F4E-B064-9C7DCA8F1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Mediation, Due Process</a:t>
            </a:r>
            <a:br>
              <a:rPr sz="4400"/>
            </a:b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or Both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ews from the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in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gal precedence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legal prece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ttorne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orn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orney f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0923-AAA8-437F-84E7-3639ABFF3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What is Due Proces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duct of legal proceedings according to established rules and principles for the protection and enforcement of private rights, including notice and the right to a fair hearing before tribunal with the power to decide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9933"/>
                </a:solidFill>
                <a:latin typeface="Times New Roman"/>
              </a:rPr>
              <a:t>a procedure that simulates a court proceeding to help make a decision between parties that don’t agree: the district and par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65C3-F149-4F3A-9AE2-075F939BB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cb2922"/>
                </a:solidFill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 of Due Proces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btain a decision on issues of disagreement by an independent, third-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20397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It is not something to fea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tense 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sier if you think about the child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et along with participants when it’s over, but occasionally it may tak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’s a relief to have a neutral person look at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E831-6867-4F6C-93EB-F5D552827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BAD0-CDF6-4F2A-A8BF-917FBF565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Due Process under Chapter 16</a:t>
            </a:r>
            <a:br>
              <a:rPr sz="4400"/>
            </a:br>
            <a:r>
              <a:rPr b="0" i="1" lang="en-US" sz="4400" spc="-1" strike="noStrike">
                <a:solidFill>
                  <a:srgbClr val="cb2922"/>
                </a:solidFill>
                <a:latin typeface="Times New Roman"/>
              </a:rPr>
              <a:t>Initiated by</a:t>
            </a:r>
            <a:r>
              <a:rPr b="0" i="1" lang="en-US" sz="4400" spc="-1" strike="noStrike">
                <a:solidFill>
                  <a:srgbClr val="339933"/>
                </a:solidFill>
                <a:latin typeface="Times New Roman"/>
              </a:rPr>
              <a:t> Parents</a:t>
            </a:r>
            <a:r>
              <a:rPr b="0" i="1" lang="en-US" sz="4400" spc="-1" strike="noStrike">
                <a:solidFill>
                  <a:srgbClr val="cb2922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-16.63(a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tudent who is gifted or who is thought to be gifted relatin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- 16.21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questions over identification 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- 16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Placement - 16.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 of a Gifte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D98F-07DA-4914-89F6-974B631F6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Educational Placement - 16.4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EP Team must base education placement based on the gifted student’s needs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41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ment mu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Enable the provis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ropriate specially designed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sed on the student’s need and 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PLEP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.2(d)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s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the student is abl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nefit meaningfu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te, level and manner of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Go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Provide opportunities to participate in acceleration or enrichment, or both, as appropriate for the student’s needs. These opportuniti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 go beyond the program that the student would receive as part of a general edu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Goals, objectives and SD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.2(d)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61A-D682-4AE7-966D-9976CD3B3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Gifted Education Defined - 16.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4280" y="22096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vidualized to meet the educational needs of the 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G</a:t>
            </a:r>
            <a:r>
              <a:rPr b="1" lang="en-US" sz="2000" spc="-1" strike="noStrike">
                <a:solidFill>
                  <a:srgbClr val="cb2922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i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onably calculated to yield meaningful educational benefit and student prog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ii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in conformity with a GI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the explanation of services provi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) Conducted in an instructional setting.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school o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i) Provided in an instructional or skill area.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skill or 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ii) Provided at no cost to the parents.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except for taxes ;-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v) Provided under the authority of a school district, directly, by referral or by contra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) or Provided by an agen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62120" y="13716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57200" y="1676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ly designed instruction to meet the needs of a gifted student tha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267080" y="57913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out: optiona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3:57:52Z</dcterms:created>
  <dc:creator>Jay Clark</dc:creator>
  <dc:description/>
  <dc:language>en-US</dc:language>
  <cp:lastModifiedBy> Linda Deal</cp:lastModifiedBy>
  <cp:lastPrinted>2010-04-21T19:03:06Z</cp:lastPrinted>
  <dcterms:modified xsi:type="dcterms:W3CDTF">2010-04-22T04:16:35Z</dcterms:modified>
  <cp:revision>19</cp:revision>
  <dc:subject/>
  <dc:title>Due Process</dc:title>
</cp:coreProperties>
</file>